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A10-8755-42AE-A518-351BCD35D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1B92-453B-4175-B7E9-5B23618A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3916-7791-4232-A161-8280EF92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EF0-3CC5-4576-810F-2AFCF45D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8911-D22C-4975-8802-FAD8F9C1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2E65-9589-43FA-821F-A52B857C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1746-E85B-4337-A1A3-1C8298E2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E805-32E4-4901-97A7-7C1DD0C0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9598-D536-47FA-B0A7-17B2F411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4028-32CF-4EE2-9825-DBFCF98E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8A46-DAF6-41D9-9665-6575D0D0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C1A-B7F7-4C15-A988-B5463D9D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D5C0-5AA0-4CB7-9388-482C39BA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2C6B-BA93-42A2-B39F-ED8F452D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A28F-9E8E-4DA5-96C1-41D7815B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3F964-4EE0-444A-B475-7CC2FABB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0B34-907E-4214-9592-0AAF5703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CB438-7B0C-4261-AF1B-783B028E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7DE521-AED6-4477-AF63-EABCEA30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D78A37-41A6-4033-B0C0-F263704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189F2-1374-4F11-B209-A7988675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60770-F061-4B19-9062-194D7429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1139-AD68-4B3A-9386-B5428CF9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6B801-73B4-428B-9CB9-405257A6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21487-4566-43E7-9DE6-F638FC0C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5AC1C-C5B1-4F37-8C70-F09E7C5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6A7A5-E84A-4947-A317-7F23AE29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7C561C-72B6-448A-A385-75BAA126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BAA00-526A-446F-80DF-ED11C235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640EC-CC52-4955-8374-5B40001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143A-EDC7-429B-9463-81B0D5579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2F354-1040-4379-BABE-7A173F8B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66CEE-0154-4338-AA5B-42FA45C2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551F-6250-437A-B3E3-37F2BDCE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CDD53-39CE-4CBF-A9E9-32F830C1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D6691-D8D8-43F4-A921-726DEA12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E4118-4630-4636-8811-8FCB0AC3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F1CA0-107F-4D3A-BC9D-3B9F8BF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ED39-0164-4678-B65D-D9DE776A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CFC79-BFA1-4F3B-86B9-64915738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AD96F-7204-4BBF-A7B6-E66620F6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21B2-327F-4D50-B378-B90E8EB1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3DB2-C36F-45A4-B343-03D396EE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8980C-847E-4DF2-87B9-8287DD70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F45-56A7-4538-A137-91FA9E62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BC5FCA-A575-4DE6-8E2C-277D4FF1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A2E58-A797-43C9-931D-8615740E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4DDBE-D2D0-45FD-8E23-400F11D0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864F2E-074B-4F96-9CC1-9C5CA5A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9B015-1BDF-4DBF-910E-0460CC68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FD910-6A58-4B11-A625-97EAACF6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458C4C-DBB5-491D-9E59-54ADC2D3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A2DE95-3054-463C-AA20-44AC8E2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94E36-3278-4385-8E8C-1F75E4DE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BB33E-4B94-4AC1-9750-B420FA31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0DB-F7F9-42E6-B7F5-D9A172BC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6CFB80-D8A1-4FFB-8787-0F0B919CE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E1A54-AE3A-4600-877C-30112B1D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3EF694-2760-4177-BAF6-A12276F7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F0121-59B3-4EDD-8396-C88CE292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FA5A85-E962-44B4-BF47-EB88B0E1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91A3F-3168-4B76-8BEE-23A6B3BE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30014-B691-4906-95A3-1C5B1328D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670188-1F39-48DB-9D6A-CDBD250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66941D-ED06-479A-A0FE-866DF10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C82F25-3AAF-4268-BDCB-26E775E2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B63-461E-40A6-949A-C857237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03CA65-901A-4ED9-BEAE-0CB8C483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F3F74-B8A2-4007-B4E0-848448D4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43D8B-A169-4AC2-9AF6-957CBAFB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D4F88-A5EB-4E71-B555-2A3DCA47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988DDA-3004-42C4-B47C-58447DB8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014864-2D07-4F2A-8DBF-8CF58A92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6C57C-8BF3-4D35-BC1C-98D5F86E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11099-CFEE-4398-9469-62CC3D5F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A014AA-2D2D-4F86-A8A0-92DC1F90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CB6A4-96AA-45B3-B02E-6A8B853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101B-1046-4C42-B148-DD34B861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E56DC0-04BC-4791-BB27-FE9F76AD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AC03B3-1CEB-4C20-8B61-6D80AA6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CC7F0-E21C-43FC-A0AB-83673FCC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F6A18-D621-418D-9845-106784C5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C3FF09-EF7A-4B33-A564-81F9C470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44BC-D43F-4682-AA82-10CF5291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40F3-DC90-4539-91D1-0C634F69C2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6DAA-B95A-461E-8CE7-32894EC964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73C-0376-4233-9A55-E81C54F1C3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0DA6-631A-413A-8F8C-D86A96F1C20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CEAA-CB48-41B0-B247-901F0838DCD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3E8-258D-4C4C-AA00-417FB963AE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65F-87D7-439E-90D9-40FCC554E9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152280" y="1219320"/>
            <a:ext cx="5790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ANATOMY 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OF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Century Schoolbook"/>
              </a:rPr>
              <a:t> THE PITUITARY GLAN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6" descr="postcard-01"/>
          <p:cNvPicPr/>
          <p:nvPr/>
        </p:nvPicPr>
        <p:blipFill>
          <a:blip r:embed="rId1"/>
          <a:stretch/>
        </p:blipFill>
        <p:spPr>
          <a:xfrm>
            <a:off x="5407200" y="-79200"/>
            <a:ext cx="381600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 rot="5400000">
            <a:off x="3371400" y="3200400"/>
            <a:ext cx="6308640" cy="45720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68c4"/>
                </a:solidFill>
                <a:latin typeface="Century Schoolbook"/>
              </a:rPr>
              <a:t>IMPORTANT RELATIONS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696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I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Diaphragma sella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ERIOR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phenoidal air sinus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TER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avernous sinus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Content Placeholder 8" descr="pituitary 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381880" cy="1066680"/>
          </a:xfrm>
          <a:prstGeom prst="rect">
            <a:avLst/>
          </a:prstGeom>
          <a:solidFill>
            <a:srgbClr val="c8d6f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668c4"/>
                </a:solidFill>
                <a:latin typeface="Century Schoolbook"/>
              </a:rPr>
              <a:t>SUBDIVISIONS OF PITUITARY GLAND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-360" y="4266720"/>
            <a:ext cx="891540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he gland is subdivided into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1) Anterior lobe (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Arial"/>
              </a:rPr>
              <a:t>Adenohypophysis</a:t>
            </a: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):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it is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True gland, Secretes hormon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2) Posterior lobe (</a:t>
            </a:r>
            <a:r>
              <a:rPr b="1" lang="en-US" sz="2000" spc="-1" strike="noStrike" u="sng">
                <a:solidFill>
                  <a:srgbClr val="92d050"/>
                </a:solidFill>
                <a:uFillTx/>
                <a:latin typeface="Arial"/>
                <a:ea typeface="Arial"/>
              </a:rPr>
              <a:t>Neurohypophysis</a:t>
            </a: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)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nnected to hypothalamus through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hypothalamo-hypophyseal tract,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Stores hormones secreted by hypothalamic nucle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Content Placeholder 4" descr="pituitary 2.jpg"/>
          <p:cNvPicPr/>
          <p:nvPr/>
        </p:nvPicPr>
        <p:blipFill>
          <a:blip r:embed="rId1"/>
          <a:stretch/>
        </p:blipFill>
        <p:spPr>
          <a:xfrm>
            <a:off x="2590920" y="1600200"/>
            <a:ext cx="5130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6" name="Oval 6"/>
          <p:cNvSpPr/>
          <p:nvPr/>
        </p:nvSpPr>
        <p:spPr>
          <a:xfrm flipH="1">
            <a:off x="5333400" y="213372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8"/>
          <p:cNvSpPr/>
          <p:nvPr/>
        </p:nvSpPr>
        <p:spPr>
          <a:xfrm flipH="1">
            <a:off x="5105520" y="2286000"/>
            <a:ext cx="3045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0"/>
          <p:cNvSpPr/>
          <p:nvPr/>
        </p:nvSpPr>
        <p:spPr>
          <a:xfrm>
            <a:off x="5105520" y="3429000"/>
            <a:ext cx="1522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2"/>
          <p:cNvSpPr/>
          <p:nvPr/>
        </p:nvSpPr>
        <p:spPr>
          <a:xfrm flipH="1">
            <a:off x="5029200" y="3429000"/>
            <a:ext cx="763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195960" y="2286000"/>
            <a:ext cx="262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Hypothalamo-hypophyse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Straight Arrow Connector 17"/>
          <p:cNvCxnSpPr>
            <a:stCxn id="410" idx="1"/>
          </p:cNvCxnSpPr>
          <p:nvPr/>
        </p:nvCxnSpPr>
        <p:spPr>
          <a:xfrm flipH="1" flipV="1">
            <a:off x="5333760" y="2513880"/>
            <a:ext cx="762480" cy="34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-360" y="34560"/>
            <a:ext cx="8915400" cy="870120"/>
          </a:xfrm>
          <a:prstGeom prst="rect">
            <a:avLst/>
          </a:prstGeom>
          <a:solidFill>
            <a:srgbClr val="d9d412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BLOOD SUPPLY OF PITUITARY GLAND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495252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RTERIES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Superior &amp; inferior hypophyseal arteries (branches of internal carotid artery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VEINS:</a:t>
            </a:r>
            <a:r>
              <a:rPr b="1" lang="en-US" sz="2000" spc="-1" strike="noStrike">
                <a:solidFill>
                  <a:srgbClr val="3818f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818f6"/>
                </a:solidFill>
                <a:latin typeface="Arial"/>
                <a:ea typeface="Arial"/>
              </a:rPr>
              <a:t>Hypophyseal veins drain into Cavernous Sinus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4" name="Picture 5" descr=""/>
          <p:cNvPicPr/>
          <p:nvPr/>
        </p:nvPicPr>
        <p:blipFill>
          <a:blip r:embed="rId1"/>
          <a:stretch/>
        </p:blipFill>
        <p:spPr>
          <a:xfrm>
            <a:off x="34920" y="838080"/>
            <a:ext cx="868680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68c4"/>
                </a:solidFill>
                <a:latin typeface="Century Schoolbook"/>
              </a:rPr>
              <a:t>DISTRIBUTION OF ARTER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6" name="Content Placeholder 8" descr="pituitary 11.jpg"/>
          <p:cNvPicPr/>
          <p:nvPr/>
        </p:nvPicPr>
        <p:blipFill>
          <a:blip r:embed="rId1"/>
          <a:stretch/>
        </p:blipFill>
        <p:spPr>
          <a:xfrm>
            <a:off x="609480" y="1600200"/>
            <a:ext cx="3886200" cy="3218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7" name="TextBox 9"/>
          <p:cNvSpPr/>
          <p:nvPr/>
        </p:nvSpPr>
        <p:spPr>
          <a:xfrm>
            <a:off x="0" y="5149800"/>
            <a:ext cx="9094680" cy="176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Superior hypophyseal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s infundibulum &amp; forms a capillary  network from which vessels pass downward &amp; form sinusoids into the anterior lobe of pituitary glan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(hypophyseal portal system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nferior hypophyseal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lies posterior lobe of pituitary gland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0"/>
          <p:cNvSpPr/>
          <p:nvPr/>
        </p:nvSpPr>
        <p:spPr>
          <a:xfrm>
            <a:off x="3124080" y="2286000"/>
            <a:ext cx="13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a hypothalam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hypophse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w Cen MT"/>
              </a:rPr>
              <a:t>portal ves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2"/>
          <a:stretch/>
        </p:blipFill>
        <p:spPr>
          <a:xfrm>
            <a:off x="4357800" y="1066680"/>
            <a:ext cx="47862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Rectangle 1"/>
          <p:cNvSpPr/>
          <p:nvPr/>
        </p:nvSpPr>
        <p:spPr>
          <a:xfrm>
            <a:off x="4548240" y="2514600"/>
            <a:ext cx="1014480" cy="5335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543800" y="4489560"/>
            <a:ext cx="155088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"/>
          <p:cNvSpPr/>
          <p:nvPr/>
        </p:nvSpPr>
        <p:spPr>
          <a:xfrm>
            <a:off x="4548240" y="4343400"/>
            <a:ext cx="1166760" cy="533520"/>
          </a:xfrm>
          <a:prstGeom prst="ellipse">
            <a:avLst/>
          </a:prstGeom>
          <a:noFill/>
          <a:ln w="25560">
            <a:solidFill>
              <a:srgbClr val="3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7977240" y="3948120"/>
            <a:ext cx="1166760" cy="533520"/>
          </a:xfrm>
          <a:prstGeom prst="ellipse">
            <a:avLst/>
          </a:prstGeom>
          <a:noFill/>
          <a:ln w="25560">
            <a:solidFill>
              <a:srgbClr val="3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4495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rmone-releasing &amp; inhibiting factor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produced by hypothalamus use </a:t>
            </a:r>
            <a:r>
              <a:rPr b="1" lang="en-US" sz="3200" spc="-1" strike="noStrike" u="sng">
                <a:solidFill>
                  <a:srgbClr val="3818f6"/>
                </a:solidFill>
                <a:uFillTx/>
                <a:latin typeface="Arial"/>
                <a:ea typeface="Arial"/>
              </a:rPr>
              <a:t>Hypophyseal Portal System</a:t>
            </a:r>
            <a:r>
              <a:rPr b="1" lang="en-US" sz="3200" spc="-1" strike="noStrike">
                <a:solidFill>
                  <a:srgbClr val="3818f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f vessels to reach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nterior lo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of pituitary gland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5" name="Picture 2" descr="C:\Documents and Settings\user1\My Documents\My Pictures\pituitary 12.png"/>
          <p:cNvPicPr/>
          <p:nvPr/>
        </p:nvPicPr>
        <p:blipFill>
          <a:blip r:embed="rId1"/>
          <a:stretch/>
        </p:blipFill>
        <p:spPr>
          <a:xfrm>
            <a:off x="4952880" y="1523880"/>
            <a:ext cx="41911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6" name="TextBox 3"/>
          <p:cNvSpPr/>
          <p:nvPr/>
        </p:nvSpPr>
        <p:spPr>
          <a:xfrm>
            <a:off x="1905120" y="457200"/>
            <a:ext cx="4572000" cy="70344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NTERIOR 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49528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neurohypophysis receives a nerve supply from some of the hypothalamic nuclei (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  <a:ea typeface="Arial"/>
              </a:rPr>
              <a:t>supraop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amp; </a:t>
            </a:r>
            <a:r>
              <a:rPr b="0" lang="en-US" sz="2800" spc="-1" strike="noStrike">
                <a:solidFill>
                  <a:srgbClr val="92d050"/>
                </a:solidFill>
                <a:latin typeface="Arial"/>
                <a:ea typeface="Arial"/>
              </a:rPr>
              <a:t>paraventricul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xons of these  nuclei convey their neurosecretion to </a:t>
            </a:r>
            <a:r>
              <a:rPr b="0" lang="en-US" sz="2800" spc="-1" strike="noStrike">
                <a:solidFill>
                  <a:srgbClr val="eb6e5a"/>
                </a:solidFill>
                <a:latin typeface="Arial"/>
                <a:ea typeface="Arial"/>
              </a:rPr>
              <a:t>the Posterior lo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pituitary gland through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  <a:ea typeface="Arial"/>
              </a:rPr>
              <a:t>Hypothalamo-Hypophyseal tract from where it passes into the blood stream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8" name="Picture 2" descr="C:\Documents and Settings\user1\My Documents\My Pictures\pituitary 12.png"/>
          <p:cNvPicPr/>
          <p:nvPr/>
        </p:nvPicPr>
        <p:blipFill>
          <a:blip r:embed="rId1"/>
          <a:stretch/>
        </p:blipFill>
        <p:spPr>
          <a:xfrm>
            <a:off x="4903920" y="950760"/>
            <a:ext cx="4267080" cy="590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9" name="TextBox 3"/>
          <p:cNvSpPr/>
          <p:nvPr/>
        </p:nvSpPr>
        <p:spPr>
          <a:xfrm>
            <a:off x="1905120" y="304920"/>
            <a:ext cx="4343400" cy="64260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OSTERIOR L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https://fbcdn-sphotos-b-a.akamaihd.net/hphotos-ak-xfp1/v/t1.0-9/12191526_768885859900903_8375571140430087867_n.jpg?oh=be6b2d1b4bf9787e7b0ce667d5ad389c&amp;oe=56C14D76&amp;__gda__=1456500735_4be071f6bee9ecd910b1b95a3904865a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2" descr="http://3.bp.blogspot.com/-ESBFPNzpmUY/UBYBOPeyXrI/AAAAAAAADe4/3n1Kf6NRN-0/s1600/thank+you2.jpg"/>
          <p:cNvPicPr/>
          <p:nvPr/>
        </p:nvPicPr>
        <p:blipFill>
          <a:blip r:embed="rId1"/>
          <a:stretch/>
        </p:blipFill>
        <p:spPr>
          <a:xfrm>
            <a:off x="838080" y="609480"/>
            <a:ext cx="7467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668c4"/>
                </a:solidFill>
                <a:latin typeface="Century Schoolbook"/>
              </a:rPr>
              <a:t>OBJECTIV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75c01"/>
                </a:solidFill>
                <a:latin typeface="Arial"/>
                <a:ea typeface="Arial"/>
              </a:rPr>
              <a:t>	</a:t>
            </a:r>
            <a:r>
              <a:rPr b="1" i="1" lang="en-US" sz="3200" spc="-1" strike="noStrike">
                <a:solidFill>
                  <a:srgbClr val="3668c4"/>
                </a:solidFill>
                <a:latin typeface="Arial"/>
                <a:ea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escribe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position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of the pituitary glan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List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structures related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to the pituitary gland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ifferentiate between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lobes of the gland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Describ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the blood supply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of pituitary gland 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&amp; the </a:t>
            </a:r>
            <a:r>
              <a:rPr b="1" lang="en-US" sz="3200" spc="-1" strike="noStrike">
                <a:solidFill>
                  <a:srgbClr val="00b0f0"/>
                </a:solidFill>
                <a:latin typeface="Arial"/>
                <a:ea typeface="Arial"/>
              </a:rPr>
              <a:t>hypophyseal portal system</a:t>
            </a:r>
            <a:r>
              <a:rPr b="1" lang="en-US" sz="3200" spc="-1" strike="noStrike">
                <a:solidFill>
                  <a:srgbClr val="e75c01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PITUITARY GLAND</a:t>
            </a:r>
            <a:br>
              <a:rPr sz="2800"/>
            </a:br>
            <a:r>
              <a:rPr b="1" lang="en-US" sz="2800" spc="-1" strike="noStrike">
                <a:solidFill>
                  <a:srgbClr val="3668c4"/>
                </a:solidFill>
                <a:latin typeface="Century Schoolbook"/>
              </a:rPr>
              <a:t>(HYPOPHYSIS CEREBRI)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4800600"/>
            <a:ext cx="80010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referred to as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master of endocrine gland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a small oval structure 1 cm in diamet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C:\Documents and Settings\user1\My Documents\My Pictures\PITUITARY.jpg"/>
          <p:cNvPicPr/>
          <p:nvPr/>
        </p:nvPicPr>
        <p:blipFill>
          <a:blip r:embed="rId1"/>
          <a:stretch/>
        </p:blipFill>
        <p:spPr>
          <a:xfrm>
            <a:off x="2590920" y="1600200"/>
            <a:ext cx="47242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3668c4"/>
                </a:solidFill>
                <a:latin typeface="Century Schoolbook"/>
              </a:rPr>
              <a:t>PITUITARY GLAND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Content Placeholder 12" descr="hypophyseal fossa.jpg"/>
          <p:cNvPicPr/>
          <p:nvPr/>
        </p:nvPicPr>
        <p:blipFill>
          <a:blip r:embed="rId1"/>
          <a:stretch/>
        </p:blipFill>
        <p:spPr>
          <a:xfrm>
            <a:off x="228600" y="2666880"/>
            <a:ext cx="4343400" cy="3657600"/>
          </a:xfrm>
          <a:prstGeom prst="rect">
            <a:avLst/>
          </a:prstGeom>
          <a:ln w="0">
            <a:noFill/>
          </a:ln>
        </p:spPr>
      </p:pic>
      <p:pic>
        <p:nvPicPr>
          <p:cNvPr id="360" name="Content Placeholder 10" descr="pituitary 4.jpg"/>
          <p:cNvPicPr/>
          <p:nvPr/>
        </p:nvPicPr>
        <p:blipFill>
          <a:blip r:embed="rId2"/>
          <a:stretch/>
        </p:blipFill>
        <p:spPr>
          <a:xfrm>
            <a:off x="4952880" y="2476440"/>
            <a:ext cx="3881520" cy="38862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11840" y="1783080"/>
            <a:ext cx="40528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X-RAY SKULL: LATERAL VIEW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78920" y="1783080"/>
            <a:ext cx="42814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Century Schoolbook"/>
              </a:rPr>
              <a:t>SAGITTAL SECTION OF HEAD &amp; NECK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842400" y="3505320"/>
            <a:ext cx="231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Hypophyseal fo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Straight Arrow Connector 15"/>
          <p:cNvCxnSpPr>
            <a:stCxn id="363" idx="2"/>
          </p:cNvCxnSpPr>
          <p:nvPr/>
        </p:nvCxnSpPr>
        <p:spPr>
          <a:xfrm>
            <a:off x="1997640" y="3874680"/>
            <a:ext cx="897480" cy="926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5" name="TextBox 16"/>
          <p:cNvSpPr/>
          <p:nvPr/>
        </p:nvSpPr>
        <p:spPr>
          <a:xfrm>
            <a:off x="3478680" y="6324480"/>
            <a:ext cx="24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phenoidal air s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20"/>
          <p:cNvCxnSpPr/>
          <p:nvPr/>
        </p:nvCxnSpPr>
        <p:spPr>
          <a:xfrm flipV="1">
            <a:off x="4952520" y="4495320"/>
            <a:ext cx="2134440" cy="2015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67" name="Straight Arrow Connector 22"/>
          <p:cNvCxnSpPr>
            <a:stCxn id="365" idx="0"/>
          </p:cNvCxnSpPr>
          <p:nvPr/>
        </p:nvCxnSpPr>
        <p:spPr>
          <a:xfrm flipH="1" flipV="1">
            <a:off x="3047760" y="4876200"/>
            <a:ext cx="1675440" cy="144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68" name="TextBox 23"/>
          <p:cNvSpPr/>
          <p:nvPr/>
        </p:nvSpPr>
        <p:spPr>
          <a:xfrm>
            <a:off x="7749000" y="2743200"/>
            <a:ext cx="118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Pitu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w Cen MT"/>
              </a:rPr>
              <a:t>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Straight Arrow Connector 25"/>
          <p:cNvCxnSpPr>
            <a:stCxn id="368" idx="1"/>
          </p:cNvCxnSpPr>
          <p:nvPr/>
        </p:nvCxnSpPr>
        <p:spPr>
          <a:xfrm flipH="1">
            <a:off x="6933960" y="3066120"/>
            <a:ext cx="915120" cy="135324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ontent Placeholder 8" descr="cranialfossanx6.jpg"/>
          <p:cNvPicPr/>
          <p:nvPr/>
        </p:nvPicPr>
        <p:blipFill>
          <a:blip r:embed="rId1"/>
          <a:stretch/>
        </p:blipFill>
        <p:spPr>
          <a:xfrm>
            <a:off x="762120" y="2362320"/>
            <a:ext cx="3616200" cy="3886200"/>
          </a:xfrm>
          <a:prstGeom prst="rect">
            <a:avLst/>
          </a:prstGeom>
          <a:ln w="0">
            <a:noFill/>
          </a:ln>
        </p:spPr>
      </p:pic>
      <p:pic>
        <p:nvPicPr>
          <p:cNvPr id="371" name="Content Placeholder 9" descr="250px-Sella_turcica.jpg"/>
          <p:cNvPicPr/>
          <p:nvPr/>
        </p:nvPicPr>
        <p:blipFill>
          <a:blip r:embed="rId2"/>
          <a:stretch/>
        </p:blipFill>
        <p:spPr>
          <a:xfrm>
            <a:off x="4876920" y="25146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411840" y="1630800"/>
            <a:ext cx="4052880" cy="577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8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t lies in the middle cranial foss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838760" y="1638720"/>
            <a:ext cx="3809160" cy="714960"/>
          </a:xfrm>
          <a:prstGeom prst="rect">
            <a:avLst/>
          </a:prstGeom>
          <a:solidFill>
            <a:srgbClr val="acc1e8"/>
          </a:solidFill>
          <a:ln w="0">
            <a:noFill/>
          </a:ln>
        </p:spPr>
        <p:txBody>
          <a:bodyPr anchor="ctr">
            <a:normAutofit fontScale="7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is well protected in sella turcica (hypophyseal fossa) of  body of sphenoi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TextBox 10"/>
          <p:cNvSpPr/>
          <p:nvPr/>
        </p:nvSpPr>
        <p:spPr>
          <a:xfrm>
            <a:off x="5742000" y="259092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Sella turc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Straight Arrow Connector 14"/>
          <p:cNvCxnSpPr>
            <a:stCxn id="374" idx="2"/>
          </p:cNvCxnSpPr>
          <p:nvPr/>
        </p:nvCxnSpPr>
        <p:spPr>
          <a:xfrm flipH="1">
            <a:off x="6324120" y="2960280"/>
            <a:ext cx="207360" cy="46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76" name="Straight Arrow Connector 16"/>
          <p:cNvCxnSpPr>
            <a:stCxn id="374" idx="2"/>
          </p:cNvCxnSpPr>
          <p:nvPr/>
        </p:nvCxnSpPr>
        <p:spPr>
          <a:xfrm>
            <a:off x="6531120" y="2960640"/>
            <a:ext cx="327600" cy="1078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77" name="Right Arrow 22"/>
          <p:cNvSpPr/>
          <p:nvPr/>
        </p:nvSpPr>
        <p:spPr>
          <a:xfrm>
            <a:off x="1905120" y="3886200"/>
            <a:ext cx="304560" cy="2286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eft Arrow 23"/>
          <p:cNvSpPr/>
          <p:nvPr/>
        </p:nvSpPr>
        <p:spPr>
          <a:xfrm>
            <a:off x="2743200" y="3886200"/>
            <a:ext cx="304920" cy="228600"/>
          </a:xfrm>
          <a:prstGeom prst="lef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2"/>
          <p:cNvSpPr/>
          <p:nvPr/>
        </p:nvSpPr>
        <p:spPr>
          <a:xfrm>
            <a:off x="2133720" y="457200"/>
            <a:ext cx="3962160" cy="64260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609120" y="5105160"/>
            <a:ext cx="80773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it lies between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optic chiasm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anteriorly) &amp;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  <a:ea typeface="Arial"/>
              </a:rPr>
              <a:t>mamillary bodies of hypothalamu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(posteriorly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C:\Documents and Settings\user1\My Documents\My Pictures\mayo_pituitary_gland.jpg"/>
          <p:cNvPicPr/>
          <p:nvPr/>
        </p:nvPicPr>
        <p:blipFill>
          <a:blip r:embed="rId1"/>
          <a:stretch/>
        </p:blipFill>
        <p:spPr>
          <a:xfrm>
            <a:off x="1600200" y="1600200"/>
            <a:ext cx="5486400" cy="33526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4"/>
          <p:cNvSpPr/>
          <p:nvPr/>
        </p:nvSpPr>
        <p:spPr>
          <a:xfrm>
            <a:off x="7194600" y="358128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Mamillar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Straight Arrow Connector 6"/>
          <p:cNvCxnSpPr>
            <a:stCxn id="382" idx="1"/>
          </p:cNvCxnSpPr>
          <p:nvPr/>
        </p:nvCxnSpPr>
        <p:spPr>
          <a:xfrm flipH="1" flipV="1">
            <a:off x="4648320" y="3657240"/>
            <a:ext cx="2667240" cy="108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4" name="TextBox 8"/>
          <p:cNvSpPr/>
          <p:nvPr/>
        </p:nvSpPr>
        <p:spPr>
          <a:xfrm>
            <a:off x="-128520" y="320040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Optic chias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Straight Arrow Connector 16"/>
          <p:cNvCxnSpPr>
            <a:stCxn id="384" idx="3"/>
          </p:cNvCxnSpPr>
          <p:nvPr/>
        </p:nvCxnSpPr>
        <p:spPr>
          <a:xfrm>
            <a:off x="1549080" y="3384720"/>
            <a:ext cx="2794680" cy="19728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86" name="TextBox 19"/>
          <p:cNvSpPr/>
          <p:nvPr/>
        </p:nvSpPr>
        <p:spPr>
          <a:xfrm>
            <a:off x="7126920" y="434340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Body of sphen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Straight Arrow Connector 21"/>
          <p:cNvCxnSpPr>
            <a:stCxn id="386" idx="1"/>
          </p:cNvCxnSpPr>
          <p:nvPr/>
        </p:nvCxnSpPr>
        <p:spPr>
          <a:xfrm flipH="1" flipV="1">
            <a:off x="4495320" y="4038120"/>
            <a:ext cx="2767680" cy="489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71760" y="3200400"/>
            <a:ext cx="630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11920" y="274680"/>
            <a:ext cx="1527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http://www.mayfieldclinic.com/Images/PE-Pituitary2b.jpg"/>
          <p:cNvPicPr/>
          <p:nvPr/>
        </p:nvPicPr>
        <p:blipFill>
          <a:blip r:embed="rId1"/>
          <a:stretch/>
        </p:blipFill>
        <p:spPr>
          <a:xfrm>
            <a:off x="76320" y="0"/>
            <a:ext cx="4744800" cy="2971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http://image.slidesharecdn.com/ch18lecturepresentation-130818141631-phpapp02/95/169-ch-18lecturepresentation-43-638.jpg?cb=1376987218"/>
          <p:cNvPicPr/>
          <p:nvPr/>
        </p:nvPicPr>
        <p:blipFill>
          <a:blip r:embed="rId2"/>
          <a:srcRect l="9941" t="0" r="8217" b="0"/>
          <a:stretch/>
        </p:blipFill>
        <p:spPr>
          <a:xfrm>
            <a:off x="4835520" y="0"/>
            <a:ext cx="432288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92" name="Picture 6" descr="http://en.shram.kiev.ua/img/health/anatomy/03.jpg"/>
          <p:cNvPicPr/>
          <p:nvPr/>
        </p:nvPicPr>
        <p:blipFill>
          <a:blip r:embed="rId3"/>
          <a:stretch/>
        </p:blipFill>
        <p:spPr>
          <a:xfrm>
            <a:off x="0" y="2971800"/>
            <a:ext cx="4821120" cy="3886200"/>
          </a:xfrm>
          <a:prstGeom prst="rect">
            <a:avLst/>
          </a:prstGeom>
          <a:ln w="28440">
            <a:solidFill>
              <a:srgbClr val="3818f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7" descr="http://intranet.tdmu.edu.ua/data/kafedra/internal/anatomy/classes_stud/en/nurse/1/bsn/ptn/1/10.%20ENDOCRINE%20GLANDS%20LYMPHATIC%20AND%20IMMUNE%20SYSTEM.files/image005.jpg"/>
          <p:cNvPicPr/>
          <p:nvPr/>
        </p:nvPicPr>
        <p:blipFill>
          <a:blip r:embed="rId1"/>
          <a:stretch/>
        </p:blipFill>
        <p:spPr>
          <a:xfrm>
            <a:off x="228600" y="380880"/>
            <a:ext cx="82296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609480" y="5486040"/>
            <a:ext cx="7925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fold of dura mater (Diaphragma sellae) covers the pituitary gland &amp; has an opening for passage of infundibulum (pituitary stalk) connecting the gland to hypothalamu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Content Placeholder 8" descr="pituitary 6.jpg"/>
          <p:cNvPicPr/>
          <p:nvPr/>
        </p:nvPicPr>
        <p:blipFill>
          <a:blip r:embed="rId1"/>
          <a:stretch/>
        </p:blipFill>
        <p:spPr>
          <a:xfrm>
            <a:off x="1447920" y="1676520"/>
            <a:ext cx="647676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98" name="Straight Arrow Connector 21"/>
          <p:cNvCxnSpPr/>
          <p:nvPr/>
        </p:nvCxnSpPr>
        <p:spPr>
          <a:xfrm flipH="1">
            <a:off x="4494960" y="2515680"/>
            <a:ext cx="2520" cy="685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9" name="Freeform 61"/>
          <p:cNvSpPr/>
          <p:nvPr/>
        </p:nvSpPr>
        <p:spPr>
          <a:xfrm>
            <a:off x="2651040" y="2884320"/>
            <a:ext cx="3780000" cy="487440"/>
          </a:xfrm>
          <a:custGeom>
            <a:avLst/>
            <a:gdLst/>
            <a:ahLst/>
            <a:rect l="l" t="t" r="r" b="b"/>
            <a:pathLst>
              <a:path w="3779520" h="488727">
                <a:moveTo>
                  <a:pt x="0" y="42186"/>
                </a:moveTo>
                <a:cubicBezTo>
                  <a:pt x="66040" y="47266"/>
                  <a:pt x="131885" y="57426"/>
                  <a:pt x="198120" y="57426"/>
                </a:cubicBezTo>
                <a:cubicBezTo>
                  <a:pt x="214184" y="57426"/>
                  <a:pt x="227776" y="42186"/>
                  <a:pt x="243840" y="42186"/>
                </a:cubicBezTo>
                <a:cubicBezTo>
                  <a:pt x="279761" y="42186"/>
                  <a:pt x="314640" y="55717"/>
                  <a:pt x="350520" y="57426"/>
                </a:cubicBezTo>
                <a:cubicBezTo>
                  <a:pt x="528191" y="65887"/>
                  <a:pt x="706120" y="67586"/>
                  <a:pt x="883920" y="72666"/>
                </a:cubicBezTo>
                <a:cubicBezTo>
                  <a:pt x="924560" y="77746"/>
                  <a:pt x="964922" y="86127"/>
                  <a:pt x="1005840" y="87906"/>
                </a:cubicBezTo>
                <a:lnTo>
                  <a:pt x="1691640" y="118386"/>
                </a:lnTo>
                <a:cubicBezTo>
                  <a:pt x="1578184" y="194023"/>
                  <a:pt x="1709837" y="119835"/>
                  <a:pt x="1447800" y="133626"/>
                </a:cubicBezTo>
                <a:cubicBezTo>
                  <a:pt x="1388728" y="136735"/>
                  <a:pt x="1354734" y="165190"/>
                  <a:pt x="1310640" y="194586"/>
                </a:cubicBezTo>
                <a:cubicBezTo>
                  <a:pt x="1295229" y="217702"/>
                  <a:pt x="1264920" y="254478"/>
                  <a:pt x="1264920" y="286026"/>
                </a:cubicBezTo>
                <a:cubicBezTo>
                  <a:pt x="1264920" y="342136"/>
                  <a:pt x="1262416" y="400435"/>
                  <a:pt x="1280160" y="453666"/>
                </a:cubicBezTo>
                <a:cubicBezTo>
                  <a:pt x="1285240" y="468906"/>
                  <a:pt x="1309854" y="467801"/>
                  <a:pt x="1325880" y="468906"/>
                </a:cubicBezTo>
                <a:cubicBezTo>
                  <a:pt x="1457744" y="478000"/>
                  <a:pt x="1590040" y="479066"/>
                  <a:pt x="1722120" y="484146"/>
                </a:cubicBezTo>
                <a:cubicBezTo>
                  <a:pt x="1955800" y="479066"/>
                  <a:pt x="2190267" y="488727"/>
                  <a:pt x="2423160" y="468906"/>
                </a:cubicBezTo>
                <a:cubicBezTo>
                  <a:pt x="2439167" y="467544"/>
                  <a:pt x="2427041" y="434545"/>
                  <a:pt x="2438400" y="423186"/>
                </a:cubicBezTo>
                <a:cubicBezTo>
                  <a:pt x="2449759" y="411827"/>
                  <a:pt x="2468880" y="413026"/>
                  <a:pt x="2484120" y="407946"/>
                </a:cubicBezTo>
                <a:cubicBezTo>
                  <a:pt x="2489200" y="392706"/>
                  <a:pt x="2499360" y="378290"/>
                  <a:pt x="2499360" y="362226"/>
                </a:cubicBezTo>
                <a:cubicBezTo>
                  <a:pt x="2499360" y="308019"/>
                  <a:pt x="2473506" y="315281"/>
                  <a:pt x="2438400" y="286026"/>
                </a:cubicBezTo>
                <a:cubicBezTo>
                  <a:pt x="2421843" y="272228"/>
                  <a:pt x="2407920" y="255546"/>
                  <a:pt x="2392680" y="240306"/>
                </a:cubicBezTo>
                <a:cubicBezTo>
                  <a:pt x="2387600" y="225066"/>
                  <a:pt x="2387475" y="207130"/>
                  <a:pt x="2377440" y="194586"/>
                </a:cubicBezTo>
                <a:cubicBezTo>
                  <a:pt x="2365998" y="180283"/>
                  <a:pt x="2348555" y="171321"/>
                  <a:pt x="2331720" y="164106"/>
                </a:cubicBezTo>
                <a:cubicBezTo>
                  <a:pt x="2285525" y="144308"/>
                  <a:pt x="2161135" y="136685"/>
                  <a:pt x="2133600" y="133626"/>
                </a:cubicBezTo>
                <a:cubicBezTo>
                  <a:pt x="2103120" y="123466"/>
                  <a:pt x="2011680" y="113306"/>
                  <a:pt x="2042160" y="103146"/>
                </a:cubicBezTo>
                <a:cubicBezTo>
                  <a:pt x="2351597" y="0"/>
                  <a:pt x="2095979" y="80144"/>
                  <a:pt x="2926080" y="72666"/>
                </a:cubicBezTo>
                <a:lnTo>
                  <a:pt x="3779520" y="726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1:54:12Z</dcterms:created>
  <dc:creator>user1</dc:creator>
  <dc:description/>
  <dc:language>en-US</dc:language>
  <cp:lastModifiedBy>Rania Jabr</cp:lastModifiedBy>
  <dcterms:modified xsi:type="dcterms:W3CDTF">2016-01-17T18:32:55Z</dcterms:modified>
  <cp:revision>77</cp:revision>
  <dc:subject/>
  <dc:title>ANATOMY  OF  THE PITUITARY GLAND</dc:title>
</cp:coreProperties>
</file>